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45.wmf" ContentType="image/x-wmf"/>
  <Override PartName="/ppt/media/image16.jpeg" ContentType="image/jpeg"/>
  <Override PartName="/ppt/media/image15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4.wmf" ContentType="image/x-wmf"/>
  <Override PartName="/ppt/media/image40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46.wmf" ContentType="image/x-wmf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jpeg" ContentType="image/jpeg"/>
  <Override PartName="/ppt/media/image23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CC81-2382-4903-8BC3-9E78CB95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37AB-1992-4994-A371-3FFCC583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1423-4B24-4096-978F-94FB9FA6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617A-7EE5-4F52-A38E-2EBAA916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865F-B90D-4DAD-BB57-20A06B0C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0AFB-6AEC-4DB5-AB9D-DF6F8FB7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1B00-1E88-44C0-83D6-34A262D7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3E92-FCF0-43C3-BF71-250F7627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444F-9955-4303-8EA9-1BC85D1A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DDC3-A63A-4BE7-AE63-78F6E730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F863-5C7F-41C6-B54F-AA983717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96FF-0F25-46F4-B070-75E221A2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E85A-E05B-40D1-A55D-A704E9097C3D}" type="slidenum">
              <a:rPr b="0" lang="pl-P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Times New Roman"/>
              </a:rPr>
              <a:t>Krzewy i krzewinki</a:t>
            </a:r>
            <a:br>
              <a:rPr sz="2400"/>
            </a:br>
            <a:r>
              <a:rPr b="1" lang="pl-PL" sz="2000" spc="-1" strike="noStrike">
                <a:solidFill>
                  <a:srgbClr val="00ff99"/>
                </a:solidFill>
                <a:latin typeface="Times New Roman"/>
              </a:rPr>
              <a:t>ROŚLINY DRZEWIASTE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-</a:t>
            </a:r>
            <a:r>
              <a:rPr b="0" lang="pl-PL" sz="2000" spc="-1" strike="noStrike">
                <a:solidFill>
                  <a:srgbClr val="ffff00"/>
                </a:solidFill>
                <a:latin typeface="Times New Roman"/>
              </a:rPr>
              <a:t> rośliny wieloletnie, o silnie zdrewniałych łodygach. Różnią się pokrojem, wysokością i obecnością lub brakiem pnia. W zależności od tego wyróżnia się wśród nich: drzewa, krzewy lub krzewinki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ff99"/>
                </a:solidFill>
                <a:latin typeface="Times New Roman"/>
              </a:rPr>
              <a:t>KRZEW</a:t>
            </a:r>
            <a:r>
              <a:rPr b="0" lang="pl-PL" sz="2200" spc="-1" strike="noStrike">
                <a:solidFill>
                  <a:srgbClr val="ffff00"/>
                </a:solidFill>
                <a:latin typeface="Times New Roman"/>
              </a:rPr>
              <a:t> - roślina trwała, wysokości 0,5-6 m, o zdrewniałych pędach, nie tworząca pędu głównego (pnia). Jej pędy są morfologicznie równocenne, wyrastają z miejsc krzewienia (tzw. szyi korzeniowej), znajdujących się pod ziemią lub tuż nad jej powierzchnią. Do krzewów należą: wiśnia karłowata, dereń świdwa, wierzba purpurowa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ff99"/>
                </a:solidFill>
                <a:latin typeface="Times New Roman"/>
              </a:rPr>
              <a:t>KRZEWINKA</a:t>
            </a:r>
            <a:r>
              <a:rPr b="0" lang="pl-PL" sz="2200" spc="-1" strike="noStrike">
                <a:solidFill>
                  <a:srgbClr val="ffff00"/>
                </a:solidFill>
                <a:latin typeface="Times New Roman"/>
              </a:rPr>
              <a:t> - roślina trwała, o zdrewniałych pędach, których wysokość nie przekracza 0,5 m. Krzewinkami są np.: modrzewnica zwyczajna, borówka brusznica, bażyna czarna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00"/>
                </a:solidFill>
                <a:latin typeface="Times New Roman"/>
              </a:rPr>
              <a:t>Salix reticulata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L. - wierzba żyłkowana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785880"/>
            <a:ext cx="7543800" cy="59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00"/>
                </a:solidFill>
                <a:latin typeface="Times New Roman"/>
              </a:rPr>
              <a:t>Salix reticulata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L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2476440" cy="1650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62120" y="320040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267080" y="1523880"/>
            <a:ext cx="35830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00"/>
                </a:solidFill>
                <a:latin typeface="Times New Roman"/>
              </a:rPr>
              <a:t>Salix herbacea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L. - wierzba zieln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95560" y="1066680"/>
            <a:ext cx="695772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00"/>
                </a:solidFill>
                <a:latin typeface="Times New Roman"/>
              </a:rPr>
              <a:t>Salix herbacea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L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3221280" cy="4100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43080" y="1828800"/>
            <a:ext cx="407664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00"/>
                </a:solidFill>
                <a:latin typeface="Times New Roman"/>
              </a:rPr>
              <a:t>Betula</a:t>
            </a:r>
            <a:r>
              <a:rPr b="1" lang="pl-PL" sz="2800" spc="-1" strike="noStrike">
                <a:solidFill>
                  <a:srgbClr val="ffff00"/>
                </a:solidFill>
                <a:latin typeface="Times New Roman"/>
              </a:rPr>
              <a:t> - brzoz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484200"/>
            <a:ext cx="784872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00"/>
                </a:solidFill>
                <a:latin typeface="Times New Roman"/>
              </a:rPr>
              <a:t>Betula pendula - Betula pubesce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514760" cy="4648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0520" y="1981080"/>
            <a:ext cx="4475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00"/>
                </a:solidFill>
                <a:latin typeface="Times New Roman"/>
              </a:rPr>
              <a:t>Betula humilis</a:t>
            </a:r>
            <a:r>
              <a:rPr b="1" lang="pl-PL" sz="2800" spc="-1" strike="noStrike">
                <a:solidFill>
                  <a:srgbClr val="ffff00"/>
                </a:solidFill>
                <a:latin typeface="Times New Roman"/>
              </a:rPr>
              <a:t> Schrank - brzoza nisk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7920" y="660240"/>
            <a:ext cx="6781680" cy="5461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447920" y="533520"/>
            <a:ext cx="67816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00"/>
                </a:solidFill>
                <a:latin typeface="Times New Roman"/>
              </a:rPr>
              <a:t>Betula nana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L. - brzoza karłowat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47920" y="693720"/>
            <a:ext cx="6476760" cy="5214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371600" y="674640"/>
            <a:ext cx="655308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00"/>
                </a:solidFill>
                <a:latin typeface="Times New Roman"/>
              </a:rPr>
              <a:t>Juniperus communis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L. - jałowiec pospolit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531720"/>
            <a:ext cx="777240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00"/>
                </a:solidFill>
                <a:latin typeface="Times New Roman"/>
              </a:rPr>
              <a:t>Pinus mugo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Turra - sosna górsk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680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43000" y="603360"/>
            <a:ext cx="66294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9360" y="76320"/>
            <a:ext cx="63882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00"/>
                </a:solidFill>
                <a:latin typeface="Times New Roman"/>
              </a:rPr>
              <a:t>Sambucus nigra</a:t>
            </a:r>
            <a:r>
              <a:rPr b="1" lang="pl-PL" sz="2800" spc="-1" strike="noStrike">
                <a:solidFill>
                  <a:srgbClr val="ffff00"/>
                </a:solidFill>
                <a:latin typeface="Times New Roman"/>
              </a:rPr>
              <a:t> L. - bez czarn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9480" y="579600"/>
            <a:ext cx="7772400" cy="61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00"/>
                </a:solidFill>
                <a:latin typeface="Times New Roman"/>
              </a:rPr>
              <a:t>Sambucus racemosa</a:t>
            </a:r>
            <a:r>
              <a:rPr b="1" lang="pl-PL" sz="2800" spc="-1" strike="noStrike">
                <a:solidFill>
                  <a:srgbClr val="ffff00"/>
                </a:solidFill>
                <a:latin typeface="Times New Roman"/>
              </a:rPr>
              <a:t> L. - bez koralow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601560"/>
            <a:ext cx="7620120" cy="61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00"/>
                </a:solidFill>
                <a:latin typeface="Times New Roman"/>
              </a:rPr>
              <a:t>Euonymus europaea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L.- trzmielina pospolit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38080" y="804960"/>
            <a:ext cx="75060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00"/>
                </a:solidFill>
                <a:latin typeface="Times New Roman"/>
              </a:rPr>
              <a:t>Frangula alnus</a:t>
            </a:r>
            <a:r>
              <a:rPr b="1" lang="pl-PL" sz="2800" spc="-1" strike="noStrike">
                <a:solidFill>
                  <a:srgbClr val="ffff00"/>
                </a:solidFill>
                <a:latin typeface="Times New Roman"/>
              </a:rPr>
              <a:t> Mill. - kruszyna pospolit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587520"/>
            <a:ext cx="784836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00"/>
                </a:solidFill>
                <a:latin typeface="Times New Roman"/>
              </a:rPr>
              <a:t>Corylus avellana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L.- leszczyna pospolit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76240" y="662040"/>
            <a:ext cx="7505640" cy="60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00"/>
                </a:solidFill>
                <a:latin typeface="Times New Roman"/>
              </a:rPr>
              <a:t>Cornus sanguinea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L. - dereń świdw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00"/>
                </a:solidFill>
                <a:latin typeface="Times New Roman"/>
              </a:rPr>
              <a:t>Cornus suecica</a:t>
            </a:r>
            <a:r>
              <a:rPr b="1" lang="pl-PL" sz="2800" spc="-1" strike="noStrike">
                <a:solidFill>
                  <a:srgbClr val="ffff00"/>
                </a:solidFill>
                <a:latin typeface="Times New Roman"/>
              </a:rPr>
              <a:t> L. - dereń szwedzk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" y="576360"/>
            <a:ext cx="777240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00"/>
                </a:solidFill>
                <a:latin typeface="Times New Roman"/>
              </a:rPr>
              <a:t>Cornus suecica</a:t>
            </a:r>
            <a:r>
              <a:rPr b="1" lang="pl-PL" sz="2800" spc="-1" strike="noStrike">
                <a:solidFill>
                  <a:srgbClr val="ffff00"/>
                </a:solidFill>
                <a:latin typeface="Times New Roman"/>
              </a:rPr>
              <a:t> L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886200" y="2743200"/>
            <a:ext cx="2286000" cy="1916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0" y="4419720"/>
            <a:ext cx="2028960" cy="2006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28600" y="1600200"/>
            <a:ext cx="32004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00"/>
                </a:solidFill>
                <a:latin typeface="Times New Roman"/>
              </a:rPr>
              <a:t>Lonicera xylosteum</a:t>
            </a:r>
            <a:r>
              <a:rPr b="1" lang="pl-PL" sz="2800" spc="-1" strike="noStrike">
                <a:solidFill>
                  <a:srgbClr val="ffff00"/>
                </a:solidFill>
                <a:latin typeface="Times New Roman"/>
              </a:rPr>
              <a:t> L. - wiciokrzew suchodrzew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" y="633240"/>
            <a:ext cx="769608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00"/>
                </a:solidFill>
                <a:latin typeface="Times New Roman"/>
              </a:rPr>
              <a:t>Crataegus laevigata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- głóg dwuszyjkow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95280" y="981000"/>
          <a:ext cx="838980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838980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00"/>
                </a:solidFill>
                <a:latin typeface="Times New Roman"/>
              </a:rPr>
              <a:t>Crataegus monogyna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Jacq. - głóg jednoszyjkow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9152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00"/>
                </a:solidFill>
                <a:latin typeface="Times New Roman"/>
              </a:rPr>
              <a:t>Cotoneaster melanocarpa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Lodd. - irga czarn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2120" y="557280"/>
            <a:ext cx="784836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00"/>
                </a:solidFill>
                <a:latin typeface="Times New Roman"/>
              </a:rPr>
              <a:t>Daphne mezereum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L. - wawrzynek wilczełyk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14400" y="592200"/>
            <a:ext cx="769608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00"/>
                </a:solidFill>
                <a:latin typeface="Times New Roman"/>
              </a:rPr>
              <a:t>Viburnum opulus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L. - kalina koralow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Times New Roman"/>
              </a:rPr>
              <a:t>ROZPORZĄDZENIE MINISTRA ŚRODOWISKA</a:t>
            </a:r>
            <a:br>
              <a:rPr sz="1800"/>
            </a:br>
            <a:r>
              <a:rPr b="1" lang="pl-PL" sz="1800" spc="-1" strike="noStrike">
                <a:solidFill>
                  <a:srgbClr val="ffff00"/>
                </a:solidFill>
                <a:latin typeface="Times New Roman"/>
              </a:rPr>
              <a:t>z dnia 11 września 2001 r.</a:t>
            </a:r>
            <a:br>
              <a:rPr sz="1800"/>
            </a:br>
            <a:r>
              <a:rPr b="1" lang="pl-PL" sz="1800" spc="-1" strike="noStrike">
                <a:solidFill>
                  <a:srgbClr val="ffff00"/>
                </a:solidFill>
                <a:latin typeface="Times New Roman"/>
              </a:rPr>
              <a:t>w sprawie określenia listy gatunków roślin rodzimych dziko występujących objętych ochroną gatunkową ścisłą i częściową oraz zakazów właściwych dla tych gatunków i odstępstw od tych zakazów.</a:t>
            </a:r>
            <a:br>
              <a:rPr sz="1800"/>
            </a:br>
            <a:r>
              <a:rPr b="1" lang="pl-PL" sz="1800" spc="-1" strike="noStrike">
                <a:solidFill>
                  <a:srgbClr val="ffff00"/>
                </a:solidFill>
                <a:latin typeface="Times New Roman"/>
              </a:rPr>
              <a:t>(Dz. U. Nr 106, poz. 1176 z dnia 29 września 2001 r.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1797120"/>
          <a:ext cx="7315200" cy="231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97120"/>
                    <a:ext cx="731520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0"/>
          <a:ext cx="5992920" cy="663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92920" cy="66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0"/>
          <a:ext cx="5992920" cy="294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92920" cy="29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00"/>
                </a:solidFill>
                <a:latin typeface="Times New Roman"/>
              </a:rPr>
              <a:t>Salix</a:t>
            </a:r>
            <a:r>
              <a:rPr b="1" lang="pl-PL" sz="2800" spc="-1" strike="noStrike">
                <a:solidFill>
                  <a:srgbClr val="ffff00"/>
                </a:solidFill>
                <a:latin typeface="Times New Roman"/>
              </a:rPr>
              <a:t> (Wierzba) i </a:t>
            </a:r>
            <a:r>
              <a:rPr b="1" i="1" lang="pl-PL" sz="2800" spc="-1" strike="noStrike">
                <a:solidFill>
                  <a:srgbClr val="ffff00"/>
                </a:solidFill>
                <a:latin typeface="Times New Roman"/>
              </a:rPr>
              <a:t>Populus</a:t>
            </a:r>
            <a:r>
              <a:rPr b="1" lang="pl-PL" sz="2800" spc="-1" strike="noStrike">
                <a:solidFill>
                  <a:srgbClr val="ffff00"/>
                </a:solidFill>
                <a:latin typeface="Times New Roman"/>
              </a:rPr>
              <a:t> (Topola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8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00"/>
                </a:solidFill>
                <a:latin typeface="Times New Roman"/>
              </a:rPr>
              <a:t>Salix fragilis</a:t>
            </a:r>
            <a:r>
              <a:rPr b="1" lang="pl-PL" sz="2800" spc="-1" strike="noStrike">
                <a:solidFill>
                  <a:srgbClr val="ffff00"/>
                </a:solidFill>
                <a:latin typeface="Times New Roman"/>
              </a:rPr>
              <a:t> L. - wierzba kruch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506520"/>
            <a:ext cx="777240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00"/>
                </a:solidFill>
                <a:latin typeface="Times New Roman"/>
              </a:rPr>
              <a:t>Salix alba</a:t>
            </a:r>
            <a:r>
              <a:rPr b="1" lang="pl-PL" sz="2800" spc="-1" strike="noStrike">
                <a:solidFill>
                  <a:srgbClr val="ffff00"/>
                </a:solidFill>
                <a:latin typeface="Times New Roman"/>
              </a:rPr>
              <a:t> L. - wierzba biał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673200"/>
            <a:ext cx="82296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00"/>
                </a:solidFill>
                <a:latin typeface="Times New Roman"/>
              </a:rPr>
              <a:t>Salix aurita</a:t>
            </a:r>
            <a:r>
              <a:rPr b="1" lang="pl-PL" sz="2800" spc="-1" strike="noStrike">
                <a:solidFill>
                  <a:srgbClr val="ffff00"/>
                </a:solidFill>
                <a:latin typeface="Times New Roman"/>
              </a:rPr>
              <a:t> L. - wierzba uszat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596880"/>
            <a:ext cx="761976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00"/>
                </a:solidFill>
                <a:latin typeface="Times New Roman"/>
              </a:rPr>
              <a:t>Salix lapponum</a:t>
            </a:r>
            <a:r>
              <a:rPr b="1" lang="pl-PL" sz="2800" spc="-1" strike="noStrike">
                <a:solidFill>
                  <a:srgbClr val="ffff00"/>
                </a:solidFill>
                <a:latin typeface="Times New Roman"/>
              </a:rPr>
              <a:t> L. - wierzba lapońska</a:t>
            </a: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781680" cy="5419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246320" y="596880"/>
            <a:ext cx="6781680" cy="6288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16200000">
            <a:off x="-1614240" y="4565160"/>
            <a:ext cx="384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00"/>
                </a:solidFill>
                <a:latin typeface="Times New Roman"/>
              </a:rPr>
              <a:t>http://www3.uj.edu.pl/IB/CHRONPOL/list.html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00"/>
                </a:solidFill>
                <a:latin typeface="Times New Roman"/>
              </a:rPr>
              <a:t>Salix myrtilloides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</a:rPr>
              <a:t> L. - wierzba borówkolistn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6781680" cy="5381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14400" y="392040"/>
            <a:ext cx="693432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3T19:06:28Z</dcterms:created>
  <dc:creator>Gazda Marek</dc:creator>
  <dc:description/>
  <dc:language>en-US</dc:language>
  <cp:lastModifiedBy>Anna</cp:lastModifiedBy>
  <dcterms:modified xsi:type="dcterms:W3CDTF">2003-06-11T09:20:51Z</dcterms:modified>
  <cp:revision>41</cp:revision>
  <dc:subject/>
  <dc:title>Krzewy</dc:title>
</cp:coreProperties>
</file>